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C42-7BC3-4AFE-BDEB-5B6DB073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71A0-95A8-42C8-8C42-D93AB67F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5C0-5ADA-41A8-9AEB-02076A38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6FB-4471-40B7-95FE-64D5297A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85A-8877-4F5F-A6CA-B54E9CBC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998-A1D8-497E-A502-C913EAE9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F23-C064-4194-9476-2BEB0AF1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318D-9184-4B4A-82D8-96003ADC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36AD-E306-4259-B740-D4103BF2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2BB-CBED-485A-A17B-B0C87579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C6A-B2BD-4BC2-83E6-A56EC011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38E-3824-4125-B6CA-E7EBD681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2649B-4149-40E1-8030-E1E8883A9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ien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down to meet you, told me you're sor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n't know how lovely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me to find yo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you I love yo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you I set you 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me your secre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sk me your ques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, let's go back to the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in circ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ng up tai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ing for science 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ody said it was eas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's such a shame for us to pa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ody said it was eas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ever said it would be this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'll take you back to the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've been just gues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umbers and figu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ing the puzzles 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of scie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and progre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speak as loud as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them you know 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back and find 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, in a rush to the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in circ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sing your tai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'll take you back as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ody said it was eas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, it's such a shame for us to pa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ody said it was eas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ever said it would be so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let's go back to the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8:32:32Z</dcterms:created>
  <dc:creator/>
  <dc:description/>
  <dc:language>en-US</dc:language>
  <cp:lastModifiedBy/>
  <dcterms:modified xsi:type="dcterms:W3CDTF">2009-04-16T18:32:35Z</dcterms:modified>
  <cp:revision>2</cp:revision>
  <dc:subject/>
  <dc:title/>
</cp:coreProperties>
</file>